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F4C-E672-418D-ADEB-3E040BE4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B53-B4A0-4172-93A7-E1DBD27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9A7-9CF0-4630-988A-B939F650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F5A-3DDE-4FF2-8ABC-1CC0B728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5773-015D-4CC0-9D2C-F4E28E2F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FC48-51AB-4854-B3E9-7B3A8A86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4012-0F41-447C-A055-2F38F11B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7F46-4F87-4F5D-AE75-9AD6A280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FDD0-6669-4732-A6B8-F086071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FF30-7A6F-4ABF-A032-7021CD7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C12C-B477-4521-8120-C801B97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AC2-69CF-4B6F-951D-0CDAE9DB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4DA1-BA62-4E11-82AE-8114888C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BAEB-434B-4210-B04E-B9A4BDC5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1715-CA91-4637-9DDF-6D314220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EBDF-AD9D-4F14-A20E-CE3CA9B1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4023-559F-47D5-BE30-FD82207F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5FF-3554-4281-B673-4495148B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549-4846-49AE-996E-7DAFD21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387-F8C7-4AAC-A154-87EFD656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DCA-4225-45ED-B36B-631EC520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BB4-DA5F-40B4-8871-73DBE2F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B07-D675-458A-8256-2FCD42E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612-F75A-4816-9309-4404B93A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C75-70D7-4012-B83B-1E6283B508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B38F-8311-4E7A-817C-C543E04753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be67"/>
                </a:solidFill>
                <a:latin typeface="Arial"/>
              </a:rPr>
              <a:t>Me llamo _________ Clase 7 IM</a:t>
            </a:r>
            <a:br>
              <a:rPr sz="4000"/>
            </a:br>
            <a:r>
              <a:rPr b="0" lang="en-US" sz="4000" spc="-1" strike="noStrike">
                <a:solidFill>
                  <a:srgbClr val="58be67"/>
                </a:solidFill>
                <a:latin typeface="Arial"/>
              </a:rPr>
              <a:t>La fecha es el 2 de diciembre del 2011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Propósito # 26: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¿Como practicamos lo que estamos aprendiend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eer p. 100-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A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p. 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B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p. 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80316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8be67"/>
                </a:solidFill>
                <a:latin typeface="Times New Roman"/>
              </a:rPr>
              <a:t>I-</a:t>
            </a:r>
            <a:r>
              <a:rPr b="0" i="1" lang="en-US" sz="2800" spc="-1" strike="noStrike">
                <a:solidFill>
                  <a:srgbClr val="58be67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jugate the following verbs in the Pres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1447920"/>
          <a:ext cx="8763120" cy="527832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Tra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Ven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Te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be67"/>
                </a:solidFill>
                <a:latin typeface="Times New Roman"/>
              </a:rPr>
              <a:t>II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sente Progresiv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 are the parts of the PRESENTE PROGRESIV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Estar” conjugated in the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present participle” according to end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590920"/>
            <a:ext cx="259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25891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-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-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425124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-ER/-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-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200400"/>
            <a:ext cx="3048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Traer/L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-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III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Saber” y “Conocer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o you use “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Sab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a fact or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how to do some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When followed by a question w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something by heart </a:t>
            </a:r>
            <a:r>
              <a:rPr b="0" i="1" lang="en-US" sz="2800" spc="-1" strike="noStrike">
                <a:solidFill>
                  <a:srgbClr val="ff66ff"/>
                </a:solidFill>
                <a:latin typeface="Verdana"/>
              </a:rPr>
              <a:t>(memor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o you use “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oc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To know someone or something very wel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When talking about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 person, don’t forget to add an “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” after ‘</a:t>
            </a:r>
            <a:r>
              <a:rPr b="0" i="1" lang="en-US" sz="2800" spc="-1" strike="noStrike">
                <a:solidFill>
                  <a:srgbClr val="ff6600"/>
                </a:solidFill>
                <a:latin typeface="Verdana"/>
              </a:rPr>
              <a:t>conocer’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conjugate these verb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143000"/>
          <a:ext cx="8229240" cy="518112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Sab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Conoc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 (1-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 (1-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(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46-4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7638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2:40:30Z</dcterms:created>
  <dc:creator>Helen Zumaeta</dc:creator>
  <dc:description/>
  <dc:language>en-US</dc:language>
  <cp:lastModifiedBy>Helen Zumaeta</cp:lastModifiedBy>
  <dcterms:modified xsi:type="dcterms:W3CDTF">2011-12-02T03:26:38Z</dcterms:modified>
  <cp:revision>5</cp:revision>
  <dc:subject/>
  <dc:title>Me llamo _________ Clase 7 IM La fecha es el 2 de diciembre del 2011</dc:title>
</cp:coreProperties>
</file>